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3.gif" ContentType="image/gif"/>
  <Override PartName="/ppt/media/image16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4E1F-1250-40C6-92BC-FB20FFA21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3720-496C-40B3-B704-8E3B6D15F0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E746-A50B-44DC-949C-4BB4FED87B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F11F-BEF7-4E68-B6AB-D837FDEB0C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B535-D9F4-4ECA-AF6E-DBBCA41A31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7842-B8CA-46FE-B273-548D1BF4E09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3DF-DEA0-4286-B7AD-3B976D9E93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4DC-9D13-4411-9D38-C5D6A6E09D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F47D-7AA7-462B-9CFE-48FB94FD08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5EDB-4BCB-4A56-B32A-6EB1324FDD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A93-A885-4B15-8BCD-41FA240D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CF9-8C93-4ED9-BD4C-3F42D7C7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D19-658A-4D3A-8278-67EF7364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6E2-34F9-4A97-B3EA-D5BC6D85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EEB2-CD28-4B1D-9519-C571D43E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DC39-80A1-47BA-AB74-863F3FA3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3EB1-0014-405D-AA71-FD09D077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570D-67FA-4AA1-8E0D-BF68B8FB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0488-16A0-48C3-BC9B-F09F96E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844B-4C29-47B9-BFB8-C588006C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D65C-12A0-4D84-9690-4681FA9A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ECB-994B-443C-89B9-70FE0C32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8385-EE00-4C52-B607-B604638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2F03-F1CC-48AA-A3FE-30ABCBDE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37E8-F260-453E-97B9-33367F9F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B14F-4D1B-47A9-BC37-2B0DC04E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E935-CD6D-469B-980C-27FA7692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484-7267-48E1-972B-912846FB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27A-97A3-42DC-A2CA-5E9AB828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26D-8176-45B7-852D-C852549E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4DE1-9298-4F30-B016-92F88E20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E70-92DF-4929-B35B-C652696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54F-5690-4CF1-BE53-AF7199A8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E19-37C2-483A-9DDD-A896410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2707-9C99-46E1-894E-9CE9FE5854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80E3-461B-4798-AE77-8D214D4229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anguage Register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362320"/>
            <a:ext cx="7467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gister of voices is an impression that’s left of your voice on others.  What kind of impression do you want to lea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2" descr="http://www.fotosearch.com/bthumb/IMZ/IMZ006/car0039.jpg"/>
          <p:cNvPicPr/>
          <p:nvPr/>
        </p:nvPicPr>
        <p:blipFill>
          <a:blip r:embed="rId1"/>
          <a:stretch/>
        </p:blipFill>
        <p:spPr>
          <a:xfrm>
            <a:off x="3505320" y="4572000"/>
            <a:ext cx="238104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286000" y="2428920"/>
            <a:ext cx="487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’t change the wor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respect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: Pledge of Allegiance, marriage vows, poetry, prayers, announcements in the airport, and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Frozen Register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7" descr="http://www.clipartheaven.com/clipart/education_%26_schools/cartoons/pledge_of_allegiance_2.gif"/>
          <p:cNvPicPr/>
          <p:nvPr/>
        </p:nvPicPr>
        <p:blipFill>
          <a:blip r:embed="rId1"/>
          <a:stretch/>
        </p:blipFill>
        <p:spPr>
          <a:xfrm>
            <a:off x="7086600" y="4572000"/>
            <a:ext cx="18320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ttp://www.ghostwords.com/wdng.jpg"/>
          <p:cNvPicPr/>
          <p:nvPr/>
        </p:nvPicPr>
        <p:blipFill>
          <a:blip r:embed="rId2"/>
          <a:stretch/>
        </p:blipFill>
        <p:spPr>
          <a:xfrm>
            <a:off x="228600" y="4800600"/>
            <a:ext cx="190512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www.ideachampions.com/heart/prayer.jpg"/>
          <p:cNvPicPr/>
          <p:nvPr/>
        </p:nvPicPr>
        <p:blipFill>
          <a:blip r:embed="rId3"/>
          <a:stretch/>
        </p:blipFill>
        <p:spPr>
          <a:xfrm>
            <a:off x="457200" y="2743200"/>
            <a:ext cx="1371600" cy="1833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http://www.arkansas.gov/abep/images/Icons/MCj03230910000%5B1%5D.gif"/>
          <p:cNvPicPr/>
          <p:nvPr/>
        </p:nvPicPr>
        <p:blipFill>
          <a:blip r:embed="rId4"/>
          <a:stretch/>
        </p:blipFill>
        <p:spPr>
          <a:xfrm>
            <a:off x="7162920" y="2590920"/>
            <a:ext cx="17240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Formal Register 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andard academic one way commun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: Essay or research pap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sentation/speec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http://www.fotosearch.com/bthumb/ARP/ARP123/dr_santa.jpg"/>
          <p:cNvPicPr/>
          <p:nvPr/>
        </p:nvPicPr>
        <p:blipFill>
          <a:blip r:embed="rId1"/>
          <a:stretch/>
        </p:blipFill>
        <p:spPr>
          <a:xfrm>
            <a:off x="3352680" y="5105520"/>
            <a:ext cx="133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library.sjsd.net/Images/cmpsilho.gif"/>
          <p:cNvPicPr/>
          <p:nvPr/>
        </p:nvPicPr>
        <p:blipFill>
          <a:blip r:embed="rId2"/>
          <a:stretch/>
        </p:blipFill>
        <p:spPr>
          <a:xfrm>
            <a:off x="228600" y="4905360"/>
            <a:ext cx="1727280" cy="1952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http://school.discoveryeducation.com/clipart/images/presentation-boy.gif"/>
          <p:cNvPicPr/>
          <p:nvPr/>
        </p:nvPicPr>
        <p:blipFill>
          <a:blip r:embed="rId3"/>
          <a:stretch/>
        </p:blipFill>
        <p:spPr>
          <a:xfrm>
            <a:off x="6324480" y="4724280"/>
            <a:ext cx="1971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onsultative Regi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90720" y="1828800"/>
            <a:ext cx="7619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ndard academic two-way commun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ually polite and courteo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: discussions, questions &amp; answers in the classroom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 convers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-the-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http://www.misscantillon.com/images/teacher_clipart_3.gif"/>
          <p:cNvPicPr/>
          <p:nvPr/>
        </p:nvPicPr>
        <p:blipFill>
          <a:blip r:embed="rId1"/>
          <a:stretch/>
        </p:blipFill>
        <p:spPr>
          <a:xfrm>
            <a:off x="7315200" y="426708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s4.hubimg.com/u/743219_f496.jpg"/>
          <p:cNvPicPr/>
          <p:nvPr/>
        </p:nvPicPr>
        <p:blipFill>
          <a:blip r:embed="rId2"/>
          <a:stretch/>
        </p:blipFill>
        <p:spPr>
          <a:xfrm>
            <a:off x="1066680" y="4952880"/>
            <a:ext cx="2543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Casual Regis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standard  one-way and two-way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ng, incomplete sentences and unfinished thou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Conversation with p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" descr="http://t2.gstatic.com/images?q=tbn:x5tu0uIlkRvbdM:http://i153.photobucket.com/albums/s235/revmyspace2/graphics/Girly/Slang/slang_0dont-have-a-c.gif&amp;t=1"/>
          <p:cNvPicPr/>
          <p:nvPr/>
        </p:nvPicPr>
        <p:blipFill>
          <a:blip r:embed="rId1"/>
          <a:stretch/>
        </p:blipFill>
        <p:spPr>
          <a:xfrm>
            <a:off x="609480" y="4724280"/>
            <a:ext cx="1676520" cy="195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total80sremix.com/wp-content/uploads/80s-slang-totally1.jpg"/>
          <p:cNvPicPr/>
          <p:nvPr/>
        </p:nvPicPr>
        <p:blipFill>
          <a:blip r:embed="rId2"/>
          <a:stretch/>
        </p:blipFill>
        <p:spPr>
          <a:xfrm>
            <a:off x="2895480" y="4495680"/>
            <a:ext cx="3333960" cy="221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www.myspacebrand.com/graphics/comments/slang/_img/slang151.gif"/>
          <p:cNvPicPr/>
          <p:nvPr/>
        </p:nvPicPr>
        <p:blipFill>
          <a:blip r:embed="rId3"/>
          <a:stretch/>
        </p:blipFill>
        <p:spPr>
          <a:xfrm>
            <a:off x="6705720" y="4114800"/>
            <a:ext cx="211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Intimate Regist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standar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 between people in relationships (husbands/wives, moms/dads, families,  girlfriends and boyfriends, or twi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  nicknames,  special terms, excludes others and has its own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6" descr="http://www.lostrelations.com/home/mrsa/public_html/lostrelations.com/wp-content/uploads/2010/01/boyfriend-pic.jpg"/>
          <p:cNvPicPr/>
          <p:nvPr/>
        </p:nvPicPr>
        <p:blipFill>
          <a:blip r:embed="rId1"/>
          <a:stretch/>
        </p:blipFill>
        <p:spPr>
          <a:xfrm>
            <a:off x="3429000" y="4876920"/>
            <a:ext cx="222876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www.popstarsplus.com/images/SprouseTwinsPicture.jpg"/>
          <p:cNvPicPr/>
          <p:nvPr/>
        </p:nvPicPr>
        <p:blipFill>
          <a:blip r:embed="rId2"/>
          <a:stretch/>
        </p:blipFill>
        <p:spPr>
          <a:xfrm>
            <a:off x="6918480" y="4800600"/>
            <a:ext cx="1517400" cy="1895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http://www.campaignforfamilies.org/img/family-together.jpg"/>
          <p:cNvPicPr/>
          <p:nvPr/>
        </p:nvPicPr>
        <p:blipFill>
          <a:blip r:embed="rId3"/>
          <a:stretch/>
        </p:blipFill>
        <p:spPr>
          <a:xfrm>
            <a:off x="685800" y="4876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 Indiviudal’s regis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Diagram 4" descr=""/>
          <p:cNvPicPr/>
          <p:nvPr/>
        </p:nvPicPr>
        <p:blipFill>
          <a:blip r:embed="rId1"/>
          <a:stretch/>
        </p:blipFill>
        <p:spPr>
          <a:xfrm>
            <a:off x="1517760" y="1384200"/>
            <a:ext cx="63403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Universal Rul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33520" y="1523880"/>
            <a:ext cx="6324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can go from one register to the next register without any confli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ever, if a person goes from one register to another register, skipping a level or more, this  is considered  antisocial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2" descr="http://images.all-free-download.com/images/graphiclarge/green_check_mark_clip_art_9355.jpg"/>
          <p:cNvPicPr/>
          <p:nvPr/>
        </p:nvPicPr>
        <p:blipFill>
          <a:blip r:embed="rId1"/>
          <a:stretch/>
        </p:blipFill>
        <p:spPr>
          <a:xfrm>
            <a:off x="6400800" y="1600200"/>
            <a:ext cx="1522440" cy="175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http://t2.gstatic.com/images?q=tbn:ANd9GcTwydYYNAR3vzBWF6vKO-LWjsepMC4osngAvAIg-IVN1K_de3g&amp;t=1&amp;usg=__qyRxbJ6lTtS2U5yh6H5bdjgTSGM="/>
          <p:cNvPicPr/>
          <p:nvPr/>
        </p:nvPicPr>
        <p:blipFill>
          <a:blip r:embed="rId2"/>
          <a:stretch/>
        </p:blipFill>
        <p:spPr>
          <a:xfrm>
            <a:off x="6858000" y="4114800"/>
            <a:ext cx="1700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Language is power</a:t>
            </a: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5" descr="http://evelynrothstein.com/images/power-of-language.jpg"/>
          <p:cNvPicPr/>
          <p:nvPr/>
        </p:nvPicPr>
        <p:blipFill>
          <a:blip r:embed="rId1"/>
          <a:stretch/>
        </p:blipFill>
        <p:spPr>
          <a:xfrm>
            <a:off x="2057400" y="2286000"/>
            <a:ext cx="4667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22:10:53Z</dcterms:created>
  <dc:creator>teacher</dc:creator>
  <dc:description/>
  <dc:language>en-US</dc:language>
  <cp:lastModifiedBy>Mcadwell</cp:lastModifiedBy>
  <dcterms:modified xsi:type="dcterms:W3CDTF">2011-09-20T17:43:53Z</dcterms:modified>
  <cp:revision>36</cp:revision>
  <dc:subject/>
  <dc:title>Language Registers</dc:title>
</cp:coreProperties>
</file>